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3AD3-F3CE-41B3-810B-D008C76BE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9F62-249A-401E-B615-ADB02C9C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B9F135-3EFD-4DCF-A334-0CBA9C9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57F3D-0438-4767-B241-A6C2010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AD529A-7ABD-4B6B-8FDF-D5C748C9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6720E4-34A9-40F0-B286-D3067279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D93D0D-E303-4F63-800D-494EC79C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34A2A5-727A-43FE-98AC-EC3F2F9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C0344-9EBB-49D3-8809-A40A2BC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4D3315-B946-4238-9CC1-65CA120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BDE1D3-37A4-4649-8A2A-56D9FDD28C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04FC-35FF-472E-A945-3A492E7BD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53BC-EA0C-49E0-9E56-EEC4E83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B0BE-6BDB-42A7-97FE-BD9A50A7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FAD1-328A-4B7D-90B6-C87653B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5E1FC-13DF-4142-8691-EE52410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0963-6B95-4763-9D1A-7162A4A9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6C11-89E8-4956-9BAB-0107861F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C476-7466-4C16-84D8-528E1555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5CD4-0E9A-466F-9C78-2A6920C1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179E6-B6E0-42CB-A4B0-1CCD72C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4862-9A56-420A-8EE2-78513C1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2DCB-0C41-436B-AC41-D9AF66C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D2A1-A328-4D97-9A95-67856B8AA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8CAF-7603-4E4C-A778-51A5426CAD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68DB1-A030-4C7D-9D84-26E273845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D9FDB-3908-4089-BAF4-6DB18F1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EA646-8103-4DCB-8468-B4E23F7F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1A8A3-6D3E-470F-98C5-D4925EA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D9979-2E78-4C0F-8484-43E5A5B8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29353-2288-401C-898D-3882ACDA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65F67-3628-4C04-B8CE-E0FAA4BD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6F178-E092-43EE-BDA2-EFC8F57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8FE7D-6A65-4488-80C0-495B635B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9245-F7BC-41E3-9DDC-980264E9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7F97F-E74A-42DD-AE0B-F86DBD2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A01B6B-0764-49FB-B33A-E8492F6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26C323-D9AF-47EA-ABF6-9B44C2BF4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D27AF-BEC4-44CA-9205-5E09B858B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408B6-EE74-44C3-AD48-CFD0B99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F8401-2785-4AE3-86DD-88B5106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24F4E-EF92-427B-B148-BBCA7BD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5D45B-3A2F-4538-AA7B-AA064154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EDCF1-4FE0-46EE-86D7-DAA668AF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16BFE-5945-49C3-BB10-44AAE6F9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A1252-CA8A-4FE3-99B7-3ABDB0E2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7C2EA-6D37-48D1-9532-03125CCE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2C364-63C2-411A-A7EE-3B45E5D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053FC-DCAA-496A-8C85-5068DAB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3ABA6-D5B2-4559-B132-94CDF52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09953-FBA1-4D5B-B1CD-8C919520F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399C4-7A83-415F-A3C5-393D168C9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71572-2D7A-42F6-8249-7FDE9C9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9DB27-1CDC-42EC-B87E-80B227E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05B1-09A2-4E9D-AC97-EFAF5E58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835FD-44FB-4E8D-A14D-08F8614B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88CFA-8C68-4220-8881-9AD483BA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536CF-3D4B-4043-B9E7-8ADB7BF9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1D1FD-1118-418F-8407-927C6FEB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1BC44-8C1F-4A37-B577-804B4D8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42E8-04D9-47AD-8B48-B6564C7D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2C8F5-2D7A-4CD0-A893-806531E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C31FE-A4E0-459B-AB7B-59F2A1E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7B1EE-FDC6-472D-A51A-9054511BD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F66AB-4FF6-4465-A159-F93C4FA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F5CAB-6CEA-46B7-BB9B-7C48D64C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86BA1-466D-4A17-9280-B300B513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DBD38-55E9-46CF-B0F7-710297F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4D9A9-115B-4BCA-AD47-C56D26A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56CAD-AC3A-429B-B16B-0BC14CC9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6A70B-EDF9-4451-B58A-8EC65E8D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BACE4-FBF9-4047-A8B5-28AD5B6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F6318-A5EF-4F88-940F-BCB283B8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D92AB-78F2-46C3-B2A5-6AFA0D3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18FF0-6B2E-41B9-9BB2-BEBBDAF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95AB7-B24E-4F9C-908F-58DE0FF3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F97B4-C494-406E-BD59-7CA43526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2F40E-2CBC-4633-A11E-79E0908B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7516-962F-487B-9D93-D036A66D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CE1B-0DC3-44A7-B838-919AABE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CC892-6955-4B7D-ABA0-6A608DB1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5D19F-256B-4671-ACFD-88FBBAA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D930D-B2D1-472E-8186-65466BB5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A420A-6F72-47A8-9332-DCAA7AA8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B1671-D38E-4980-A586-D7F1A1F8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7199A-9643-4F8B-924F-3DB5AD6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A53A6-C7D7-49D9-B6AB-F4ADCC2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10217-77C2-4CBB-A68B-307E8FC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F85C-F3A7-4075-AFC8-C663C9A5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4FF61-4EEB-45F8-86DD-3A2B2D74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BF23-0497-40CC-BED7-3BE74D98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D55CA-6ADB-4248-9625-28387B06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179D0-5719-453F-8403-135B53E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14D2B-1AC4-4C39-BE2E-43E06B9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C5ADD-7234-4186-892E-A323852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3A2A9-00A3-435D-8806-AB6B7FB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5F07A-4854-4006-BEE8-D61A747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B01B9-2E25-4B51-97AF-93AADAD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DEC86-7FEB-4CC4-BAE7-91F2E73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5A9F8-C78C-4923-A991-BE49891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DDDA-5A37-4438-9023-623A857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CB8D9-17E3-44A9-BF40-9A31091B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50FD9-36EB-445E-B901-FDA8BA3D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55F4A-77FD-4F21-BD8C-BD9AD252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B283E-787C-40A3-B412-F056828C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165E0-BC41-4925-B606-D3B8992E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54966-F64A-48AC-8A83-8005117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D70C3-9E2A-4E6C-BAD1-819FB53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6E333-2E8F-4D88-9315-50C06AEC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29DC2-58C7-4E2D-82B1-D30D408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B38EE-C3FF-4EC9-B1BC-60D4EA93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D9BB-46D4-4781-B380-ED72AE5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FB39E-0085-4F42-AF40-9DDB11D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5CB1A-1B45-4116-B5A0-D616C83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54B5F-0472-4376-A918-3750E05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96EA1-173A-4574-82B0-2FF8C0CB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67B10-A5A3-4FA2-88D8-5206215D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48C9A-03A4-4D9B-9CD8-3CD1D43E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D7D1E-27F7-4A56-A4C6-E7EE1328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3DAC8-15C4-433B-BBDC-AD01830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C6D9D-C2C0-4A41-AFF3-E6805BC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365CE-A0DA-474E-9662-EC7C2DD1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0623A-92D1-4896-A893-8E91113B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3573-22F9-4C81-B299-C8D5389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12EE5-E9F0-4C16-96B7-2344B82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A840E-99DB-4B5E-873A-0BC9C8D4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094B2-99B3-4ABF-993A-1EAEA56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D15F5-77CB-4AAE-B200-7FEC977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F9ADF-7531-49F8-8421-5649292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5B869-B5A1-4405-816B-A3064793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08CD9-B6D3-421E-BA42-7B70B75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7FE04-B20B-4966-9BA1-B2A757F0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BC77-943F-446B-925E-800C3032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3D16C-4FD3-462B-9097-73B22B32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FC58C-C46B-4FD4-8B61-EDFC796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AB420-9181-45F8-957D-D74BDBFB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C7E0C-C6C4-4038-9879-D0DEDF00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98EEF-B5D0-4BEF-88B6-8EC56CBC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33911-4BC6-499A-BB1E-9E89DEC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C2F47-5705-4B0F-8E34-702A839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CB283-6407-4B0A-A7E4-CEEF67C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8098F-687B-4D4F-B81D-99CA5CA7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28DE3-5F0F-4D4E-9090-0A6E247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EC41E-C535-4659-8304-83DEDB44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27E51-7B2F-4C96-A8FD-D40839CC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28EBB-F942-4098-A9A9-EC998005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88D9E-2D0F-4394-BC30-CFEAC8C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13514-133C-477B-B1EF-0B7CA0D8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B00F5-6FA5-4F49-83DB-3372559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06EF5-DFBE-405D-A5B4-A336D905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FAA50-420C-48B3-B698-DB46954E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6B7A9-4961-477C-9C91-B276D10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291C7-5218-4E54-8353-7824F75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85877-32D9-4CD8-891E-847DF9F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4165A-306F-418E-8E2B-8515FC4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B13C5-0284-459C-A333-8B076130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2CD18-A7DD-4AA7-8AA9-75E72212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FB030-3F5E-44B4-A23C-C22BD265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5C75D-04C0-4FD1-81D9-3E09D9D3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67F7C-1925-4D55-B82C-5CFB237D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B7F18-4BD8-4B8C-9BFC-FA90DDD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F5DBF-3B8E-4998-91BC-FFB9B63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1AE76-F5F0-4247-B010-8446EB2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8B8AB-717B-431D-B103-000EF2EF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CACD8-6389-4ECF-871D-0DE454D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14D54-BE1C-4805-B7E2-CD269C1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DFEEA-C002-4D44-95A2-7B26ABA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07CEA-255E-4B56-8F3D-26CDE5209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75827-63B3-4750-A644-F412C48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01B81-AB7E-4D26-B72D-BE38ACF4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C0C6E-BBCD-4D7A-BAE4-181D040E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01DF4-84AD-44CC-96F0-E4CDA806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F30F4-0BC0-48C7-836A-1660A2C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1DE73-04F8-4D69-AFD5-9BBB29B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54D55-4071-4302-86D7-CFDF85A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9FCB1-FC44-4FD0-ABB3-11FF3C39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97D70-08AD-45BE-B995-FA132C8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3B868-CB57-4FE3-BDDE-12351B0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5EA37-439F-4727-8E2A-D71E0525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98388-AFCE-459F-BEBA-C43E4A21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33F87-CC4E-4D4A-89C8-577001BB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3BDB5-29E5-4FC6-A62E-B8C0D36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9572E-CA87-4799-8F06-AAEB4EE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92437-C9C6-473B-9880-05EC1E85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E2A90-5FE4-4E1B-AE98-7BF83EFC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AD7B9-9EAD-411E-913B-181FC98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F9353-CF12-4ADB-8BFF-941EB513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C0345-4F30-4B4A-ADAE-7EE4C66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84DAF-3DBD-482A-92C7-EE944C9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B3469-87F9-4EC2-AC30-31C34E58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4EDB9-8F88-4C13-AA69-68019BA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EA80F-7D96-4A6E-ACBA-33E28AA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B32C6-17CD-4F43-A44D-947E8A8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B438E-9904-473B-923A-090DB16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0F76A-308F-4CCD-8273-2B60BDCC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DC83A-7D0E-4DCE-A6E4-4211A732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8ECC0-D7C1-462A-B84E-2D3B65C8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6D18E-5F15-4299-B8D8-5ECCCCE5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CE0E8-D224-4544-A471-C90636A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78A0C-F948-4525-8F87-49966C5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B7A71-F7DD-4D5B-8447-F09D257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FA7D5-66FE-4EF6-8C9D-57C1A8B2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8A362-23F4-4A42-A700-1B3F64A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5F9D4-FCFD-4BA3-94B5-3CA7CD5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B7662-EA41-41A6-871D-A101CD6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343C3-8008-4808-A946-DD69A27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CB9F8-7925-4FBD-B156-631AEB2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8E38A-6E3E-46EA-94FA-05262C9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21E82-D093-4173-8459-45B25A05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2020C-9737-4A64-B668-89D80183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1A5BC-70F9-4FBD-B436-49659824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D5B6-D190-498B-AE8D-838B628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84717-0907-4A13-85EB-699FDDCE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0FF03D-458F-4653-A9EF-25E7793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898EF-E9DA-482A-92EF-438DD19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DDA87-5D52-4757-B42B-D75A3DFB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BE989-D062-4D90-BE2B-8B896EF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E5A85-B884-48C5-91ED-804B3DE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BA8E4-1820-47A8-BF2B-0F49144497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1CAD-0734-4924-BB00-EB18E7A1B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37E0-C361-4D08-8C27-11A4C78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E0C0-16AB-43A9-8909-CCCC3EA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6466-2C91-4866-9DBA-61089A9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58C9-C3B2-406D-8CF9-FA0213DD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66DF-28FB-4709-885B-33E1B6B7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B1EF-965C-43CC-9280-AAE7D4BF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BAC2-2627-497A-8C00-6D1F87A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6540-308F-4CC2-AAA0-9D38356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72FF-4E43-4D33-9216-46C08390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D5D1-6012-4D63-AC83-FFB84C83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1ABD-B735-4F4C-B3A0-7A5819B1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6172-E092-4371-AE72-517094E0B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90C2B-8847-4C56-9CFD-E89596613D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A95A-9757-4E83-AF24-F563281D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5D681-8E2C-4B0B-A2DD-B6D31A8D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142BC-BD93-4BBB-A961-00813729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5FB1E-D83C-42FE-A330-9785F28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EF8EA-EC84-440F-98DA-8ED0AC01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00EDF-0CD4-4EDA-AD9C-BC4F8807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FC65E-616F-40A3-9FF1-7C42F7F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33A66-F491-4A11-885F-D1B6904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BB196-7826-4053-AEE4-B35B7846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5A9BF-B8C0-4446-9E05-5E31AC1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DE44A-5E21-4DE9-8DD6-3AE26A3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9764-7557-4C23-9373-A3DC8E3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AD427-1041-419B-BA50-74EAECF5AB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4AC1EF-241C-47AC-A507-4271DE937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CE7AB-91A3-4F74-98AB-BD6C1394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C15A0-0089-465A-8F32-011D8D3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A51EC-B505-4358-A553-C241631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B1598-6554-4B2B-AFA4-FA02867C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E6477-489C-43DD-8FAA-527731D0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85B6D6-4E03-434B-81E1-FE8FA49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6D5D5-0E81-4CF2-AB7B-CBC7ADB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E2BA5-2392-458F-AC05-7FA5CE92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99EA-ECE4-4597-A11F-3637B440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4B036-491B-4685-B0DC-76214AF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8CBBEC-C041-418A-9440-532C76B4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F2C49-8117-4A59-8821-5598829CC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BBF7-D012-4451-90CE-2AC7A069A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B371-63F5-4FA1-A1E9-84A13E8F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79BA-02BC-4F51-B74E-148B703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1A0DE-9C16-4429-80B2-BC6406F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0DFC-EC49-4189-A59B-603D1FCE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3ACC-0FB4-48CE-BF2C-2781F28B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DBFD-67DC-4634-91F0-4E2E304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F6D6-7848-42F6-B3E8-5DDC0603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74E8-5CCC-464E-91DE-9B869DD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C37D9-82BB-4EB3-A35B-9DF011E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24FC-C2A9-4E29-8152-08C3BA0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D04B-3791-4BAC-8569-DD8AFC0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29DE-593D-4320-8D8A-ECE5D587C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A3DD9-6E94-44C7-8870-3958BBB784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EF73B-F09F-491B-92F9-B5836FC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7814A-0BD4-456C-833E-8A26ABB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25A38-C52E-4B67-9420-19EB89A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44BAB-C3A1-47A0-AE8B-664617B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B621-54F2-4F1C-BF58-642E038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72E19-0342-4077-87E8-4011BBBA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1D2C9-6C04-4607-A469-30AED64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12F9E-4183-4EDF-8124-570E3325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ADFC5-FE9A-43CB-8AA0-E4338882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85AF7-58D9-4096-A05D-9121CBC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4EC4A-36C1-4F4C-ACF6-9B708BD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557DC-655C-45E1-8FE8-0D6E733E9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33BB6-2F60-449C-B00A-49B046B2C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D4CE66-FE42-458B-88DE-FD53BD40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A8DCB-9D35-4B3C-82C4-1F30039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839-7B78-4BCC-8D2E-5C2E484C93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BEE-9C00-4330-B260-FB90493AA4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BC7-FDF3-4036-B629-CFBBAC1CBB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C31-302E-4A5D-82CD-F9244066E9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F76-F829-41F1-A555-FBEA3BAAA7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90E5-E852-46CB-ADEB-F08831C701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746-3B83-46A7-BBFA-DCA2383BA2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EECE-5A4D-4962-8AF4-6803AB2159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95F5-3A3D-4B35-9ACA-94349FC5D0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80EF-20F9-4532-A7AC-6D0608AEC5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FF6-FF9F-4EA1-9643-19A79094B1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82D-3494-4B8D-80AB-385053B7D2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17F-2C05-4946-8489-E39244AE83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605F-2BB6-46AA-BCEB-3E0CB6F913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2693-4595-47BB-8AD3-361F23F361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94B-11B2-4CAD-9158-3047528DA6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850-D7A7-407F-A5F0-21883C6A10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963-1725-4EC2-981D-47CD35FB26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E91-A2C5-42E8-ABC3-72FC471599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697-E253-44E5-95EC-A14D6C73C2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54B-3E3F-4956-9755-2236F5D6DD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ED11-7741-4CA7-A5B9-2B979224D9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AB5-24A3-4056-8489-C5F372A255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9F0B-1B09-4E75-874C-8A0EC2258A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111400" y="2649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求 亿 以 上 数 的 近 似 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109692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99"/>
          <p:cNvSpPr/>
          <p:nvPr/>
        </p:nvSpPr>
        <p:spPr>
          <a:xfrm>
            <a:off x="365040" y="738360"/>
            <a:ext cx="85946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写出下面的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亿五千万                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百零五亿零四十二万      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七千六百五十亿零八百零九万    写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_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"/>
          <p:cNvSpPr/>
          <p:nvPr/>
        </p:nvSpPr>
        <p:spPr>
          <a:xfrm>
            <a:off x="6200640" y="14670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2"/>
          <p:cNvSpPr/>
          <p:nvPr/>
        </p:nvSpPr>
        <p:spPr>
          <a:xfrm>
            <a:off x="6200640" y="20160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5004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3"/>
          <p:cNvSpPr/>
          <p:nvPr/>
        </p:nvSpPr>
        <p:spPr>
          <a:xfrm>
            <a:off x="6276960" y="259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500809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4"/>
          <p:cNvSpPr/>
          <p:nvPr/>
        </p:nvSpPr>
        <p:spPr>
          <a:xfrm>
            <a:off x="343080" y="3338640"/>
            <a:ext cx="81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、把下面的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0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2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6"/>
          <p:cNvSpPr/>
          <p:nvPr/>
        </p:nvSpPr>
        <p:spPr>
          <a:xfrm>
            <a:off x="2300400" y="38559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二十五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7"/>
          <p:cNvSpPr/>
          <p:nvPr/>
        </p:nvSpPr>
        <p:spPr>
          <a:xfrm>
            <a:off x="6659640" y="38401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千二百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8"/>
          <p:cNvSpPr/>
          <p:nvPr/>
        </p:nvSpPr>
        <p:spPr>
          <a:xfrm>
            <a:off x="2292480" y="44038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三十四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9"/>
          <p:cNvSpPr/>
          <p:nvPr/>
        </p:nvSpPr>
        <p:spPr>
          <a:xfrm>
            <a:off x="6710400" y="440388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百零二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3"/>
          <p:cNvSpPr/>
          <p:nvPr/>
        </p:nvSpPr>
        <p:spPr>
          <a:xfrm>
            <a:off x="228600" y="727200"/>
            <a:ext cx="8715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  <a:ea typeface="宋体"/>
              </a:rPr>
              <a:t>省略下面各数亿位后面的尾数，求出它们的近似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450000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 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6540000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75780"/>
          <p:cNvSpPr/>
          <p:nvPr/>
        </p:nvSpPr>
        <p:spPr>
          <a:xfrm>
            <a:off x="11430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千万位上的数小于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把亿位后面的尾数舍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75781"/>
          <p:cNvSpPr/>
          <p:nvPr/>
        </p:nvSpPr>
        <p:spPr>
          <a:xfrm>
            <a:off x="1947600" y="38275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千万位上的数比</a:t>
            </a:r>
            <a:r>
              <a:rPr b="1" lang="en-US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大，该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761760" y="1981080"/>
            <a:ext cx="360" cy="609840"/>
            <a:chOff x="761760" y="1981080"/>
            <a:chExt cx="360" cy="609840"/>
          </a:xfrm>
        </p:grpSpPr>
        <p:sp>
          <p:nvSpPr>
            <p:cNvPr id="1023" name="直接连接符 75786"/>
            <p:cNvSpPr/>
            <p:nvPr/>
          </p:nvSpPr>
          <p:spPr>
            <a:xfrm flipV="1">
              <a:off x="762120" y="1981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 rot="10800000">
              <a:off x="761760" y="1981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762120" y="2590920"/>
            <a:ext cx="457200" cy="360"/>
            <a:chOff x="762120" y="2590920"/>
            <a:chExt cx="457200" cy="360"/>
          </a:xfrm>
        </p:grpSpPr>
        <p:sp>
          <p:nvSpPr>
            <p:cNvPr id="1026" name="直接连接符 75787"/>
            <p:cNvSpPr/>
            <p:nvPr/>
          </p:nvSpPr>
          <p:spPr>
            <a:xfrm>
              <a:off x="76212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762120" y="2590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761760" y="3428640"/>
            <a:ext cx="360" cy="609480"/>
            <a:chOff x="761760" y="3428640"/>
            <a:chExt cx="360" cy="609480"/>
          </a:xfrm>
        </p:grpSpPr>
        <p:sp>
          <p:nvSpPr>
            <p:cNvPr id="1029" name="直接连接符 75788"/>
            <p:cNvSpPr/>
            <p:nvPr/>
          </p:nvSpPr>
          <p:spPr>
            <a:xfrm flipV="1">
              <a:off x="762120" y="3428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 rot="10800000">
              <a:off x="761760" y="342864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762120" y="4038480"/>
            <a:ext cx="457200" cy="360"/>
            <a:chOff x="762120" y="4038480"/>
            <a:chExt cx="457200" cy="360"/>
          </a:xfrm>
        </p:grpSpPr>
        <p:sp>
          <p:nvSpPr>
            <p:cNvPr id="1032" name="直接连接符 75789"/>
            <p:cNvSpPr/>
            <p:nvPr/>
          </p:nvSpPr>
          <p:spPr>
            <a:xfrm>
              <a:off x="762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762120" y="4038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330120" y="439740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宋体"/>
              </a:rPr>
              <a:t>理解题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缺角矩形 37"/>
          <p:cNvSpPr/>
          <p:nvPr/>
        </p:nvSpPr>
        <p:spPr>
          <a:xfrm>
            <a:off x="298440" y="4521240"/>
            <a:ext cx="216000" cy="216000"/>
          </a:xfrm>
          <a:custGeom>
            <a:avLst/>
            <a:gdLst>
              <a:gd name="textAreaLeft" fmla="*/ 25200 w 216000"/>
              <a:gd name="textAreaRight" fmla="*/ 190800 w 216000"/>
              <a:gd name="textAreaTop" fmla="*/ 25200 h 216000"/>
              <a:gd name="textAreaBottom" fmla="*/ 190800 h 2160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b0f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"/>
          <p:cNvSpPr/>
          <p:nvPr/>
        </p:nvSpPr>
        <p:spPr>
          <a:xfrm>
            <a:off x="425520" y="5000760"/>
            <a:ext cx="85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题中给出的两个数都不是整亿数，要求省略亿位后面的尾数，就是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舍五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求这两个数的近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38"/>
          <p:cNvGrpSpPr/>
          <p:nvPr/>
        </p:nvGrpSpPr>
        <p:grpSpPr>
          <a:xfrm>
            <a:off x="279360" y="750960"/>
            <a:ext cx="2147400" cy="459720"/>
            <a:chOff x="279360" y="750960"/>
            <a:chExt cx="2147400" cy="459720"/>
          </a:xfrm>
        </p:grpSpPr>
        <p:sp>
          <p:nvSpPr>
            <p:cNvPr id="1051" name="TextBox 3"/>
            <p:cNvSpPr/>
            <p:nvPr/>
          </p:nvSpPr>
          <p:spPr>
            <a:xfrm>
              <a:off x="383760" y="7509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缺角矩形 3"/>
            <p:cNvSpPr/>
            <p:nvPr/>
          </p:nvSpPr>
          <p:spPr>
            <a:xfrm>
              <a:off x="279360" y="8715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文本框 4"/>
          <p:cNvSpPr/>
          <p:nvPr/>
        </p:nvSpPr>
        <p:spPr>
          <a:xfrm>
            <a:off x="663480" y="1163520"/>
            <a:ext cx="79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345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要省略亿位后面的尾数，就看千万位上的数，千万位上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小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舍去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所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34500000≈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要省略亿位后面的尾数，就看千万位上的数，千万位上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大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舍去的同时，要向前一位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所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≈9900000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后再将两个近似数去掉末尾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换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，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000000=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900000000=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41"/>
          <p:cNvGrpSpPr/>
          <p:nvPr/>
        </p:nvGrpSpPr>
        <p:grpSpPr>
          <a:xfrm>
            <a:off x="297000" y="4462560"/>
            <a:ext cx="2147400" cy="459720"/>
            <a:chOff x="297000" y="4462560"/>
            <a:chExt cx="2147400" cy="459720"/>
          </a:xfrm>
        </p:grpSpPr>
        <p:sp>
          <p:nvSpPr>
            <p:cNvPr id="1055" name="TextBox 3"/>
            <p:cNvSpPr/>
            <p:nvPr/>
          </p:nvSpPr>
          <p:spPr>
            <a:xfrm>
              <a:off x="401400" y="446256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缺角矩形 43"/>
            <p:cNvSpPr/>
            <p:nvPr/>
          </p:nvSpPr>
          <p:spPr>
            <a:xfrm>
              <a:off x="297000" y="45831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文本框 6"/>
          <p:cNvSpPr/>
          <p:nvPr/>
        </p:nvSpPr>
        <p:spPr>
          <a:xfrm>
            <a:off x="838080" y="5094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876540000 ≈ 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9" name="图片 76801" descr="E:\2017秋上·黄倩\其他\人\海豚.jpg海豚"/>
          <p:cNvPicPr/>
          <p:nvPr/>
        </p:nvPicPr>
        <p:blipFill>
          <a:blip r:embed="rId8"/>
          <a:stretch/>
        </p:blipFill>
        <p:spPr>
          <a:xfrm flipH="1">
            <a:off x="7116480" y="3438360"/>
            <a:ext cx="857160" cy="109548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3"/>
          <p:cNvSpPr/>
          <p:nvPr/>
        </p:nvSpPr>
        <p:spPr>
          <a:xfrm>
            <a:off x="380880" y="2028960"/>
            <a:ext cx="38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600000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3000000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2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270230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96920000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6900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"/>
          <p:cNvSpPr/>
          <p:nvPr/>
        </p:nvSpPr>
        <p:spPr>
          <a:xfrm>
            <a:off x="2362320" y="2219400"/>
            <a:ext cx="16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10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5"/>
          <p:cNvSpPr/>
          <p:nvPr/>
        </p:nvSpPr>
        <p:spPr>
          <a:xfrm>
            <a:off x="2557440" y="2867040"/>
            <a:ext cx="170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503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6"/>
          <p:cNvSpPr/>
          <p:nvPr/>
        </p:nvSpPr>
        <p:spPr>
          <a:xfrm>
            <a:off x="2209680" y="3514680"/>
            <a:ext cx="137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7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7"/>
          <p:cNvSpPr/>
          <p:nvPr/>
        </p:nvSpPr>
        <p:spPr>
          <a:xfrm>
            <a:off x="2201760" y="4116240"/>
            <a:ext cx="137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8"/>
          <p:cNvSpPr/>
          <p:nvPr/>
        </p:nvSpPr>
        <p:spPr>
          <a:xfrm>
            <a:off x="2362320" y="4780080"/>
            <a:ext cx="1447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97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362320" y="5419800"/>
            <a:ext cx="1523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69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圆角矩形标注 11"/>
          <p:cNvSpPr/>
          <p:nvPr/>
        </p:nvSpPr>
        <p:spPr>
          <a:xfrm>
            <a:off x="5257800" y="3019320"/>
            <a:ext cx="1676520" cy="604800"/>
          </a:xfrm>
          <a:prstGeom prst="wedgeRoundRectCallout">
            <a:avLst>
              <a:gd name="adj1" fmla="val 57953"/>
              <a:gd name="adj2" fmla="val 81759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6810"/>
          <p:cNvSpPr/>
          <p:nvPr/>
        </p:nvSpPr>
        <p:spPr>
          <a:xfrm>
            <a:off x="5732640" y="30751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你行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76811"/>
          <p:cNvSpPr/>
          <p:nvPr/>
        </p:nvSpPr>
        <p:spPr>
          <a:xfrm>
            <a:off x="304920" y="1066680"/>
            <a:ext cx="883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把下面的数改写成用“亿”作单位的数。（不是整亿的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用“四舍五入”法省略亿位后面的尾数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21"/>
          <p:cNvSpPr/>
          <p:nvPr/>
        </p:nvSpPr>
        <p:spPr>
          <a:xfrm>
            <a:off x="154368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75785"/>
          <p:cNvSpPr/>
          <p:nvPr/>
        </p:nvSpPr>
        <p:spPr>
          <a:xfrm>
            <a:off x="343080" y="1341360"/>
            <a:ext cx="8458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省略亿位后面的尾数，要看千万位上的数是大于或等于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还是小于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，根据“四舍五入”的方法求出近似数。结果要加一个“亿”字，由于是近似数，必须用“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≈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连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Rectangle 21"/>
          <p:cNvSpPr/>
          <p:nvPr/>
        </p:nvSpPr>
        <p:spPr>
          <a:xfrm>
            <a:off x="1618920" y="122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四、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11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